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083F-8BC4-4F3D-AD4F-8D945C3F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41F-0854-4CD2-9AC5-20D52F6D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05F1-A4D5-4356-A002-C5B2692A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B06A-52EE-4AB6-8FFE-E8AE2D74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4F2B-2399-4095-BA0E-8F94516A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7630-577F-4135-A0B8-B7D9F015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FB78-B2F1-4167-BB55-AD7A5B0C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ACE0-A409-4024-BFB8-639861CA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108D-F45C-47D8-B175-3396D88E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AD84-755E-45C1-A80C-C751E731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5266-F077-4693-9C02-A24EF0F3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007-23DA-47C2-8525-AE0C47FA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11DB-E21E-4089-B9C4-1C5149D7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D00D-8B5C-4189-A575-35AAD91E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0908-C5AB-4395-95AF-F0A153DA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2AB1-4BC7-4B45-957E-B2EF2DF8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78C4-3F96-44E0-8710-256B0242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39ED-7B71-438C-BE00-D0835638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4BE-320B-4394-B573-F30B4BD9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A639-9A9A-4E3F-8852-AE168B36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1D67-2606-43F3-9512-3525F823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3FDB-8B0D-4446-8C1E-05E30539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BF9E-2B9E-4A9E-912A-81512E90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55EB-7731-47B0-9007-3FC7F4C1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88BD-B367-462B-9491-A27121D047D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E540-D398-468A-9053-E2D15F41DE2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QUITY AND ACCES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LLENG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RATEG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IDEAS FOR TEACHING 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EQUITY AND ACCES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line key ideas in the policy and discuss; create a notecard with main idea on one side and on the other side: “who, what where when and why?” (use as a primary source do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ete the chart throughout the workshop as strategies eme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e success st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gage in theme so that students are “caught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 literacy strategies and connect to equ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IDEAS FOR TEACHING 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EQUITY AND ACCES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onal 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help with state standardized test sc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0:10:58Z</dcterms:created>
  <dc:creator>South TI</dc:creator>
  <dc:description/>
  <dc:language>en-US</dc:language>
  <cp:lastModifiedBy>South TI</cp:lastModifiedBy>
  <dcterms:modified xsi:type="dcterms:W3CDTF">2008-08-06T18:00:32Z</dcterms:modified>
  <cp:revision>11</cp:revision>
  <dc:subject/>
  <dc:title>EQUITY AND ACCESS</dc:title>
</cp:coreProperties>
</file>